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FFB93-6965-4BB8-8037-01CE40420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47A59-418B-4208-AB78-D7274AA68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D8D0C-1D6C-4DB4-9DE5-C3FA3EC20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E56FF-6BD1-469C-A383-932E1B6DE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F4972-0116-4EED-9DD1-DF2D2D6EB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FE729-2903-4014-B82B-2A4B8736A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57B90-18C4-4260-8C23-296397A9F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8B0C4-A542-45D5-853A-783A44B20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A1F97-96AD-4DFF-AF33-15614EF03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38AC5-27ED-4C18-BD7F-CBEECC8F7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ACA58-9B0F-4810-AD18-0D7CBB659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20683-1F34-4028-AAA9-4FDB2EC03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7318D-7C80-4C6D-84A4-3DC556EEAB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1294920"/>
            <a:ext cx="81532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400" spc="-1" strike="noStrike">
                <a:solidFill>
                  <a:srgbClr val="000000"/>
                </a:solidFill>
                <a:latin typeface="Times New Roman"/>
              </a:rPr>
              <a:t>Improved modelling of</a:t>
            </a:r>
            <a:br>
              <a:rPr sz="4400"/>
            </a:br>
            <a:r>
              <a:rPr b="0" lang="da-DK" sz="4400" spc="-1" strike="noStrike">
                <a:solidFill>
                  <a:srgbClr val="000000"/>
                </a:solidFill>
                <a:latin typeface="Times New Roman"/>
              </a:rPr>
              <a:t>the JEM-X collimat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SDAST meeting #2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DSRI, August 20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Niels L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400" spc="-1" strike="noStrike">
                <a:solidFill>
                  <a:srgbClr val="000000"/>
                </a:solidFill>
                <a:latin typeface="Times New Roman"/>
              </a:rPr>
              <a:t>Science Results &amp; Iss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09480" y="1447920"/>
            <a:ext cx="807732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Sgr A*</a:t>
            </a:r>
            <a:r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Galactic Centre (Goldwurm et al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IGR 19140+0951</a:t>
            </a:r>
            <a:r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New source  (Hannikainen et al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3EG 1736-2908</a:t>
            </a:r>
            <a:r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EGRET source (Di Cocco et al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1E 1841-045</a:t>
            </a:r>
            <a:r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Anomalous X-ray Pulsar (Kuiper et al)        </a:t>
            </a:r>
            <a:r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**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Core Programme during AO-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143000" y="4495680"/>
            <a:ext cx="7620120" cy="19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</a:rPr>
              <a:t>1.3 Ms   Galactic Centre.</a:t>
            </a:r>
            <a:r>
              <a:rPr b="0" lang="da-DK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a-DK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a-DK" sz="1400" spc="-1" strike="noStrike">
                <a:solidFill>
                  <a:srgbClr val="000000"/>
                </a:solidFill>
                <a:latin typeface="Times New Roman"/>
              </a:rPr>
              <a:t>2 x 5 x 5 pt dither (at 45 deg)  - 2.17 deg sp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</a:rPr>
              <a:t>1.4 Ms   Scutum Arm</a:t>
            </a:r>
            <a:r>
              <a:rPr b="0" lang="da-DK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a-DK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a-DK" sz="1400" spc="-1" strike="noStrike">
                <a:solidFill>
                  <a:srgbClr val="000000"/>
                </a:solidFill>
                <a:latin typeface="Times New Roman"/>
              </a:rPr>
              <a:t>10 x 5 points, 2.17 deg sp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</a:rPr>
              <a:t>0.8 Ms   Norma Arm</a:t>
            </a:r>
            <a:r>
              <a:rPr b="0" lang="da-DK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a-DK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a-DK" sz="1400" spc="-1" strike="noStrike">
                <a:solidFill>
                  <a:srgbClr val="000000"/>
                </a:solidFill>
                <a:latin typeface="Times New Roman"/>
              </a:rPr>
              <a:t>10 x 5 points, 2.17 deg sp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</a:rPr>
              <a:t>1.3 Ms   Galactic latitude scan</a:t>
            </a:r>
            <a:r>
              <a:rPr b="0" lang="da-DK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a-DK" sz="1400" spc="-1" strike="noStrike">
                <a:solidFill>
                  <a:srgbClr val="000000"/>
                </a:solidFill>
                <a:latin typeface="Times New Roman"/>
              </a:rPr>
              <a:t>5 x 16 points  2.0 deg sp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da-DK" sz="1400" spc="-1" strike="noStrike">
                <a:solidFill>
                  <a:srgbClr val="000000"/>
                </a:solidFill>
                <a:latin typeface="Times New Roman"/>
              </a:rPr>
              <a:t>?  Ms   Galactic Plane Scans</a:t>
            </a:r>
            <a:r>
              <a:rPr b="0" lang="da-DK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a-DK" sz="1400" spc="-1" strike="noStrike">
                <a:solidFill>
                  <a:srgbClr val="000000"/>
                </a:solidFill>
                <a:latin typeface="Times New Roman"/>
              </a:rPr>
              <a:t>every 12 days, step size 7 deg, |b| &lt; 6.45 de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</a:rPr>
              <a:t>1.0 Ms   Deep Extragalactic Survey    5 x 12 pointings, 2.17 deg spacing. (Virgo,  3C273,  3C279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Galactic Center - 2003 GC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676520" y="1447920"/>
            <a:ext cx="5790960" cy="467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Galactic Center  -  2004 Sg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676520" y="1447920"/>
            <a:ext cx="5821200" cy="46368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6095880" y="632448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I: A. Goldwu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84872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400" spc="-1" strike="noStrike">
                <a:solidFill>
                  <a:srgbClr val="000000"/>
                </a:solidFill>
                <a:latin typeface="Times New Roman"/>
              </a:rPr>
              <a:t>Detailed modelling of the       JEM-X collimator</a:t>
            </a:r>
            <a:br>
              <a:rPr sz="4400"/>
            </a:br>
            <a:r>
              <a:rPr b="0" lang="da-DK" sz="4400" spc="-1" strike="noStrike">
                <a:solidFill>
                  <a:srgbClr val="000000"/>
                </a:solidFill>
                <a:latin typeface="Times New Roman"/>
              </a:rPr>
              <a:t>(to improve off-axis response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3124080"/>
            <a:ext cx="777240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Three new effects are consider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Tilt of the collimator lamellae                                 (independently for the Y and Z lamellae – 2 paramete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Non-flatness of lamellae (1 parameter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Spherical deformation of the collimator (1 paramet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400" spc="-1" strike="noStrike">
                <a:solidFill>
                  <a:srgbClr val="000000"/>
                </a:solidFill>
                <a:latin typeface="Times New Roman"/>
              </a:rPr>
              <a:t>Optimization metho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2362320"/>
            <a:ext cx="77724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Data from observations of the Crab in orbit 43-44, 102 and 170 have been use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Instrument parameters were varied, one at a 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A search for a minimum in the variance of the Crab intensity variations as function of off-axis angle were sou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79246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The 16 instrument parameters involved in the optimiz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609480"/>
            <a:ext cx="7925040" cy="62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da-DK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7.05    7.05      coll_pitch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// nominally: 7.05 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0.45    0.375     coll_width </a:t>
            </a:r>
            <a:r>
              <a:rPr b="1" lang="da-DK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// nominally:  0.45 * 0.5 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3393.0  3393.0      mask_height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// nominally: 3401 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a-DK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a-DK" sz="1400" spc="-1" strike="noStrike">
                <a:solidFill>
                  <a:srgbClr val="000000"/>
                </a:solidFill>
                <a:latin typeface="Courier New"/>
              </a:rPr>
              <a:t>// Common-X is the direction from JEM-X2 to JEM-X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-0.03  180.00      alfa</a:t>
            </a:r>
            <a:r>
              <a:rPr b="1" lang="da-DK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a-DK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// angle betw</a:t>
            </a:r>
            <a:r>
              <a:rPr b="1" lang="da-DK" sz="1400" spc="-1" strike="noStrike">
                <a:solidFill>
                  <a:srgbClr val="000000"/>
                </a:solidFill>
                <a:latin typeface="Courier New"/>
              </a:rPr>
              <a:t>.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Mask</a:t>
            </a:r>
            <a:r>
              <a:rPr b="1" lang="da-DK" sz="1400" spc="-1" strike="noStrike">
                <a:solidFill>
                  <a:srgbClr val="000000"/>
                </a:solidFill>
                <a:latin typeface="Courier New"/>
              </a:rPr>
              <a:t>-X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and Common-X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-0.17  180.0   </a:t>
            </a:r>
            <a:r>
              <a:rPr b="1" lang="da-DK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beta </a:t>
            </a:r>
            <a:r>
              <a:rPr b="1" lang="da-DK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// angle betw</a:t>
            </a:r>
            <a:r>
              <a:rPr b="1" lang="da-DK" sz="1400" spc="-1" strike="noStrike">
                <a:solidFill>
                  <a:srgbClr val="000000"/>
                </a:solidFill>
                <a:latin typeface="Courier New"/>
              </a:rPr>
              <a:t>.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collim.</a:t>
            </a:r>
            <a:r>
              <a:rPr b="1" lang="da-DK" sz="1400" spc="-1" strike="noStrike">
                <a:solidFill>
                  <a:srgbClr val="000000"/>
                </a:solidFill>
                <a:latin typeface="Courier New"/>
              </a:rPr>
              <a:t>-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X and Common-X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0.00  179.97   </a:t>
            </a:r>
            <a:r>
              <a:rPr b="1" lang="da-DK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gamma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// angle betw</a:t>
            </a:r>
            <a:r>
              <a:rPr b="1" lang="da-DK" sz="1400" spc="-1" strike="noStrike">
                <a:solidFill>
                  <a:srgbClr val="000000"/>
                </a:solidFill>
                <a:latin typeface="Courier New"/>
              </a:rPr>
              <a:t>.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M</a:t>
            </a:r>
            <a:r>
              <a:rPr b="1" lang="da-DK" sz="1400" spc="-1" strike="noStrike">
                <a:solidFill>
                  <a:srgbClr val="000000"/>
                </a:solidFill>
                <a:latin typeface="Courier New"/>
              </a:rPr>
              <a:t>-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strip</a:t>
            </a:r>
            <a:r>
              <a:rPr b="1" lang="da-DK" sz="1400" spc="-1" strike="noStrike">
                <a:solidFill>
                  <a:srgbClr val="000000"/>
                </a:solidFill>
                <a:latin typeface="Courier New"/>
              </a:rPr>
              <a:t>-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X and Common-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-0.05    0.0       xshift  mm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// X shift of microstrip wrt </a:t>
            </a:r>
            <a:r>
              <a:rPr b="1" lang="da-DK" sz="1400" spc="-1" strike="noStrike">
                <a:solidFill>
                  <a:srgbClr val="000000"/>
                </a:solidFill>
                <a:latin typeface="Courier New"/>
              </a:rPr>
              <a:t>c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ollim</a:t>
            </a:r>
            <a:r>
              <a:rPr b="1" lang="da-DK" sz="1400" spc="-1" strike="noStrike">
                <a:solidFill>
                  <a:srgbClr val="000000"/>
                </a:solidFill>
                <a:latin typeface="Courier New"/>
              </a:rPr>
              <a:t>.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3.5     3.50      yshift  mm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// Y shift of microstrip wrt </a:t>
            </a:r>
            <a:r>
              <a:rPr b="1" lang="da-DK" sz="1400" spc="-1" strike="noStrike">
                <a:solidFill>
                  <a:srgbClr val="000000"/>
                </a:solidFill>
                <a:latin typeface="Courier New"/>
              </a:rPr>
              <a:t>c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ollim</a:t>
            </a:r>
            <a:r>
              <a:rPr b="1" lang="da-DK" sz="1400" spc="-1" strike="noStrike">
                <a:solidFill>
                  <a:srgbClr val="000000"/>
                </a:solidFill>
                <a:latin typeface="Courier New"/>
              </a:rPr>
              <a:t>.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-0.2    -0.325     c_tiltx mm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// X tilt of collimator wal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0.2    -0.01      c_tilty mm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// Y tilt of collimator wall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1.0001  1.0035    coll_curv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// collim</a:t>
            </a:r>
            <a:r>
              <a:rPr b="1" lang="da-DK" sz="1400" spc="-1" strike="noStrike">
                <a:solidFill>
                  <a:srgbClr val="000000"/>
                </a:solidFill>
                <a:latin typeface="Courier New"/>
              </a:rPr>
              <a:t>.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curvature </a:t>
            </a:r>
            <a:r>
              <a:rPr b="1" lang="da-DK" sz="14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   </a:t>
            </a:r>
            <a:r>
              <a:rPr b="1" lang="da-DK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a-DK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(1.0 = flat collimator, &gt;1.0 = high in the center</a:t>
            </a:r>
            <a:r>
              <a:rPr b="1" lang="da-DK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1.0002  1.0009    mask_scale</a:t>
            </a:r>
            <a:r>
              <a:rPr b="1" lang="da-DK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// scale</a:t>
            </a:r>
            <a:r>
              <a:rPr b="1" lang="da-DK" sz="1400" spc="-1" strike="noStrike">
                <a:solidFill>
                  <a:srgbClr val="000000"/>
                </a:solidFill>
                <a:latin typeface="Courier New"/>
              </a:rPr>
              <a:t> (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hexa_dim </a:t>
            </a:r>
            <a:r>
              <a:rPr b="1" lang="da-DK" sz="1400" spc="-1" strike="noStrike">
                <a:solidFill>
                  <a:srgbClr val="000000"/>
                </a:solidFill>
                <a:latin typeface="Courier New"/>
              </a:rPr>
              <a:t>&amp;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mask_height</a:t>
            </a:r>
            <a:r>
              <a:rPr b="1" lang="da-DK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// </a:t>
            </a:r>
            <a:r>
              <a:rPr b="1" lang="da-DK" sz="14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arameters </a:t>
            </a:r>
            <a:r>
              <a:rPr b="1" lang="da-DK" sz="14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transf</a:t>
            </a:r>
            <a:r>
              <a:rPr b="1" lang="da-DK" sz="1400" spc="-1" strike="noStrike">
                <a:solidFill>
                  <a:srgbClr val="000000"/>
                </a:solidFill>
                <a:latin typeface="Courier New"/>
              </a:rPr>
              <a:t>.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da-DK" sz="1400" spc="-1" strike="noStrike">
                <a:solidFill>
                  <a:srgbClr val="000000"/>
                </a:solidFill>
                <a:latin typeface="Courier New"/>
              </a:rPr>
              <a:t>from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JEM-X</a:t>
            </a:r>
            <a:r>
              <a:rPr b="1" lang="da-DK" sz="1400" spc="-1" strike="noStrike">
                <a:solidFill>
                  <a:srgbClr val="000000"/>
                </a:solidFill>
                <a:latin typeface="Courier New"/>
              </a:rPr>
              <a:t> to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sky direc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0.00015 0.0003    phase2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a-DK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// twist of Common-X w</a:t>
            </a:r>
            <a:r>
              <a:rPr b="1" lang="da-DK" sz="1400" spc="-1" strike="noStrike">
                <a:solidFill>
                  <a:srgbClr val="000000"/>
                </a:solidFill>
                <a:latin typeface="Courier New"/>
              </a:rPr>
              <a:t>rt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star-track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-1.10  -0.84     offX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a-DK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// </a:t>
            </a:r>
            <a:r>
              <a:rPr b="1" lang="da-DK" sz="1400" spc="-1" strike="noStrike">
                <a:solidFill>
                  <a:srgbClr val="000000"/>
                </a:solidFill>
                <a:latin typeface="Courier New"/>
              </a:rPr>
              <a:t>X-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offset (pixels</a:t>
            </a:r>
            <a:r>
              <a:rPr b="1" lang="da-DK" sz="1400" spc="-1" strike="noStrike">
                <a:solidFill>
                  <a:srgbClr val="000000"/>
                </a:solidFill>
                <a:latin typeface="Courier New"/>
              </a:rPr>
              <a:t> in 255x255 ima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-2.50  -2.37     offY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a-DK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// </a:t>
            </a:r>
            <a:r>
              <a:rPr b="1" lang="da-DK" sz="1400" spc="-1" strike="noStrike">
                <a:solidFill>
                  <a:srgbClr val="000000"/>
                </a:solidFill>
                <a:latin typeface="Courier New"/>
              </a:rPr>
              <a:t>Y-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offset </a:t>
            </a:r>
            <a:r>
              <a:rPr b="1" lang="da-DK" sz="1400" spc="-1" strike="noStrike">
                <a:solidFill>
                  <a:srgbClr val="000000"/>
                </a:solidFill>
                <a:latin typeface="Courier New"/>
              </a:rPr>
              <a:t>(pixels in 255x255 ima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400" spc="-1" strike="noStrike">
                <a:solidFill>
                  <a:srgbClr val="000000"/>
                </a:solidFill>
                <a:latin typeface="Courier New"/>
              </a:rPr>
              <a:t>+ rms values for the position uncertainty in four energy band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400" spc="-1" strike="noStrike">
                <a:solidFill>
                  <a:srgbClr val="000000"/>
                </a:solidFill>
                <a:latin typeface="Times New Roman"/>
              </a:rPr>
              <a:t>Crab flux vs off-axis angle</a:t>
            </a:r>
            <a:br>
              <a:rPr sz="4400"/>
            </a:br>
            <a:r>
              <a:rPr b="0" lang="da-DK" sz="4400" spc="-1" strike="noStrike">
                <a:solidFill>
                  <a:srgbClr val="000000"/>
                </a:solidFill>
                <a:latin typeface="Times New Roman"/>
              </a:rPr>
              <a:t>(model adjusted to revs. 43-4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219320" y="1828800"/>
            <a:ext cx="6781680" cy="48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400" spc="-1" strike="noStrike">
                <a:solidFill>
                  <a:srgbClr val="000000"/>
                </a:solidFill>
                <a:latin typeface="Times New Roman"/>
              </a:rPr>
              <a:t>Application of improved </a:t>
            </a:r>
            <a:br>
              <a:rPr sz="4400"/>
            </a:br>
            <a:r>
              <a:rPr b="0" lang="da-DK" sz="4400" spc="-1" strike="noStrike">
                <a:solidFill>
                  <a:srgbClr val="000000"/>
                </a:solidFill>
                <a:latin typeface="Times New Roman"/>
              </a:rPr>
              <a:t>collimator model to imag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62120" y="2514600"/>
            <a:ext cx="754380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The improved collimator model has been implemented into the midisky IROS softwar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The result is that the strength assigned to the sources have increased by 20 to 50%. (The weaker sources normally shows the largest increase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The number of spurious source candidates (&gt;5 ”sigma”) are reduced by 10 %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9246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400" spc="-1" strike="noStrike">
                <a:solidFill>
                  <a:srgbClr val="000000"/>
                </a:solidFill>
                <a:latin typeface="Times New Roman"/>
              </a:rPr>
              <a:t>Flux extraction</a:t>
            </a:r>
            <a:br>
              <a:rPr sz="4400"/>
            </a:br>
            <a:r>
              <a:rPr b="0" lang="da-DK" sz="4400" spc="-1" strike="noStrike">
                <a:solidFill>
                  <a:srgbClr val="000000"/>
                </a:solidFill>
                <a:latin typeface="Times New Roman"/>
              </a:rPr>
              <a:t>(3 method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33520" y="1905120"/>
            <a:ext cx="8076960" cy="39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1)  Spectral extraction software:                                                         Take signal in ”illuminated” pixels and subtract corresponding signal from  ”shadowed” pixels. (According to ”best” source model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2)  IROS imaging software:                                                             Fit source strength with ”best” source mode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3)  Image analysis                                                                           Count events in image pea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(normalization problems not yet adress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400" spc="-1" strike="noStrike">
                <a:solidFill>
                  <a:srgbClr val="000000"/>
                </a:solidFill>
                <a:latin typeface="Times New Roman"/>
              </a:rPr>
              <a:t>Crab flux vs off-axis angle</a:t>
            </a:r>
            <a:br>
              <a:rPr sz="4400"/>
            </a:br>
            <a:r>
              <a:rPr b="0" lang="da-DK" sz="4400" spc="-1" strike="noStrike">
                <a:solidFill>
                  <a:srgbClr val="000000"/>
                </a:solidFill>
                <a:latin typeface="Times New Roman"/>
              </a:rPr>
              <a:t>Different extraction metho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066680" y="1676520"/>
            <a:ext cx="7010640" cy="50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400" spc="-1" strike="noStrike">
                <a:solidFill>
                  <a:srgbClr val="000000"/>
                </a:solidFill>
                <a:latin typeface="Times New Roman"/>
              </a:rPr>
              <a:t>JEMIROS stat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27160" y="2098800"/>
            <a:ext cx="725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09480" y="1981080"/>
            <a:ext cx="784872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OSA4 installed on lapt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Paul Connells JEMIROS updated to match midi_b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Current midisky (mb8) cleaned for ’print’ statements, ’exit(0)’ statements replaced by error returns and replacement of all common parameters with struct parameters is in progr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0T05:40:10Z</dcterms:created>
  <dc:creator>Niels Lund</dc:creator>
  <dc:description/>
  <dc:language>en-US</dc:language>
  <cp:lastModifiedBy>Niels Lund</cp:lastModifiedBy>
  <dcterms:modified xsi:type="dcterms:W3CDTF">2004-08-10T15:31:13Z</dcterms:modified>
  <cp:revision>2</cp:revision>
  <dc:subject/>
  <dc:title>Improved modelling of the JEM-X collimator</dc:title>
</cp:coreProperties>
</file>