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3.wmf" ContentType="image/x-wmf"/>
  <Override PartName="/ppt/media/image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23960" y="1944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23960" y="4308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23960" y="1944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1000" y="1944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23960" y="4308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41000" y="4308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23960" y="1944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6400" y="1944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88840" y="1944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23960" y="4308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06400" y="4308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88840" y="4308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23960" y="1944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23960" y="1944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23960" y="1944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41000" y="1944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23960" y="10368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3960" y="1944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41000" y="1944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23960" y="4308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23960" y="1944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3960" y="1944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41000" y="1944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41000" y="4308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3960" y="1944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41000" y="1944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23960" y="4308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3960" y="1944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23960" y="4308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3960" y="1944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41000" y="1944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23960" y="4308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41000" y="4308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3960" y="1944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6400" y="1944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88840" y="1944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23960" y="4308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6400" y="4308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88840" y="4308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23960" y="1944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23960" y="1944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41000" y="1944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23960" y="10368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23960" y="1944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41000" y="1944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23960" y="4308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23960" y="1944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41000" y="1944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41000" y="4308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23960" y="1944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1000" y="1944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23960" y="4308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23960" y="1944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14240" y="6619680"/>
            <a:ext cx="672336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SDAST meeting #36, Copenhagen 2006-10-26</a:t>
            </a: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page </a:t>
            </a:r>
            <a:fld id="{0A1C4FE6-E242-4637-A1F9-DF695E0AA7E6}" type="slidenum"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5760" y="3216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85760" y="3216240"/>
            <a:ext cx="72900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erlin Sans FB"/>
              </a:rPr>
              <a:t>Long X-ray bursts monitoring     in the Galactic Cent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an INTEGRAL AO-4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71440" y="5473800"/>
            <a:ext cx="704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da-DK" sz="2000" spc="-1" strike="noStrike">
                <a:solidFill>
                  <a:srgbClr val="356292"/>
                </a:solidFill>
                <a:latin typeface="Berlin Sans FB"/>
              </a:rPr>
              <a:t>Jérôme Chenevez</a:t>
            </a:r>
            <a:r>
              <a:rPr b="0" lang="da-DK" sz="2000" spc="-1" strike="noStrike">
                <a:solidFill>
                  <a:srgbClr val="000000"/>
                </a:solidFill>
                <a:latin typeface="Berlin Sans FB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Berlin Sans FB"/>
              </a:rPr>
              <a:t>Maurizio Falanga, </a:t>
            </a:r>
            <a:r>
              <a:rPr b="0" lang="en-GB" sz="2000" spc="-1" strike="noStrike">
                <a:solidFill>
                  <a:srgbClr val="356292"/>
                </a:solidFill>
                <a:latin typeface="Berlin Sans FB"/>
              </a:rPr>
              <a:t>Niels Lund</a:t>
            </a:r>
            <a:r>
              <a:rPr b="0" lang="en-GB" sz="2000" spc="-1" strike="noStrike">
                <a:solidFill>
                  <a:srgbClr val="000000"/>
                </a:solidFill>
                <a:latin typeface="Berlin Sans FB"/>
              </a:rPr>
              <a:t>, </a:t>
            </a:r>
            <a:r>
              <a:rPr b="0" lang="en-GB" sz="2000" spc="-1" strike="noStrike">
                <a:solidFill>
                  <a:srgbClr val="356292"/>
                </a:solidFill>
                <a:latin typeface="Berlin Sans FB"/>
              </a:rPr>
              <a:t>Søren Brandt</a:t>
            </a:r>
            <a:r>
              <a:rPr b="0" lang="en-GB" sz="2000" spc="-1" strike="noStrike">
                <a:solidFill>
                  <a:srgbClr val="000000"/>
                </a:solidFill>
                <a:latin typeface="Berlin Sans FB"/>
              </a:rPr>
              <a:t>, Erik Kuulkers, Tim Oosterbroek, Hendrik Schatz , Lars Bildsten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 rot="5400000">
            <a:off x="-152640" y="1338120"/>
            <a:ext cx="4184640" cy="4070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 rot="5400000">
            <a:off x="4376160" y="882360"/>
            <a:ext cx="4230720" cy="4923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336760" y="5945040"/>
            <a:ext cx="47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More light curv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73040" y="1119240"/>
            <a:ext cx="845496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 rot="5400000">
            <a:off x="521280" y="402120"/>
            <a:ext cx="3019680" cy="4062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 rot="5400000">
            <a:off x="5534640" y="384840"/>
            <a:ext cx="3079800" cy="4138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 rot="5400000">
            <a:off x="525960" y="3282120"/>
            <a:ext cx="3049560" cy="4102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 rot="5400000">
            <a:off x="5542200" y="3256560"/>
            <a:ext cx="3068640" cy="4133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929760" y="1168560"/>
            <a:ext cx="138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ex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4840" y="4092480"/>
            <a:ext cx="121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Det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spec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99000" y="2521080"/>
            <a:ext cx="187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~1.6 keV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~1.2 k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77560" y="1160640"/>
            <a:ext cx="84834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14520" y="1838160"/>
            <a:ext cx="7743600" cy="4658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536840" y="1239840"/>
            <a:ext cx="613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GX 3+1 unusually long X-ray burst on 200408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360" y="1027080"/>
            <a:ext cx="80294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Programme observation map and X-ray bur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 rot="5400000">
            <a:off x="2228760" y="31320"/>
            <a:ext cx="4486320" cy="82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14680" y="998280"/>
            <a:ext cx="569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M-X exposure map of rev. 4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2200" y="1446120"/>
            <a:ext cx="8425080" cy="5132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276720" y="1386000"/>
            <a:ext cx="2124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da-DK" sz="2000" spc="-1" strike="noStrike">
                <a:solidFill>
                  <a:srgbClr val="000000"/>
                </a:solidFill>
                <a:latin typeface="Berlin Sans FB"/>
              </a:rPr>
              <a:t>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23840" y="1007640"/>
            <a:ext cx="55148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aic of rev. 485 [10 – 25 keV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24000" y="1446120"/>
            <a:ext cx="8423280" cy="5129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105440" y="1490760"/>
            <a:ext cx="16761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Berlin Sans FB"/>
              </a:rPr>
              <a:t>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998280"/>
            <a:ext cx="7086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aic of rev. 485 with X-ray bur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4000" y="1446120"/>
            <a:ext cx="84247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9160" y="1036440"/>
            <a:ext cx="8715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M-X detector light curve [3-20 keV] of whole KP 484 (30s bi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72880" y="1469880"/>
            <a:ext cx="8693280" cy="5127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28960" y="1452600"/>
            <a:ext cx="20289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da-DK" sz="2000" spc="-1" strike="noStrike">
                <a:solidFill>
                  <a:srgbClr val="000000"/>
                </a:solidFill>
                <a:latin typeface="Berlin Sans FB"/>
              </a:rPr>
              <a:t>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61960" y="1079640"/>
            <a:ext cx="8309160" cy="54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14480" y="1028880"/>
            <a:ext cx="8953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5T15:03:06Z</dcterms:created>
  <dc:creator>Mette Marianne Hvid</dc:creator>
  <dc:description/>
  <dc:language>en-US</dc:language>
  <cp:lastModifiedBy>Jerome Chenevez</cp:lastModifiedBy>
  <dcterms:modified xsi:type="dcterms:W3CDTF">2006-10-26T08:53:52Z</dcterms:modified>
  <cp:revision>56</cp:revision>
  <dc:subject/>
  <dc:title>Slide 1</dc:title>
</cp:coreProperties>
</file>