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8227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23600" y="4308120"/>
            <a:ext cx="8227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9920" y="1944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3600" y="4308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9920" y="4308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680" y="1944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7760" y="1944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23600" y="4308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5680" y="4308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7760" y="4308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3600" y="194472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39920" y="1944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23600" y="1036440"/>
            <a:ext cx="82278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9920" y="1944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23600" y="4308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23600" y="194472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9920" y="1944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39920" y="4308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9920" y="1944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23600" y="4308120"/>
            <a:ext cx="8227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8227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23600" y="4308120"/>
            <a:ext cx="8227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9920" y="1944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3600" y="4308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39920" y="4308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680" y="1944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7760" y="19447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23600" y="4308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05680" y="4308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87760" y="430812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9920" y="1944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23600" y="1036440"/>
            <a:ext cx="822780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9920" y="1944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23600" y="4308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9920" y="1944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9920" y="43081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3600" y="1944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9920" y="194472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23600" y="4308120"/>
            <a:ext cx="8227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14240" y="6620040"/>
            <a:ext cx="67233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DAST meeting #36, Copenhagen 2006-10-26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                                                                       pag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3600" y="1036440"/>
            <a:ext cx="82278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23600" y="1944720"/>
            <a:ext cx="8227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88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_ima_mosaic deliveries for OSA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_ima_mosaic-6.0.0 (April 2006 – last SDAST meeting #3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R 4377 (Energy selection), SCREW 1850: WCS transform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CREW 1851 reject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_ima_mosaic-6.0.1 (8 September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R 4301: new parameter dolB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_ima_mosaic-6.0.2 (15 September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CREW 1918 : new input IMATYPE keywords copied to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_ima_mosaic-6.0.3 (28 September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CREW 1929: 1 single output file and E-dependant Exposure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