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640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8840" y="1944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396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640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88840" y="4308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3960" y="10368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1000" y="4308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396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44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23960" y="4308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960" y="194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14240" y="6619680"/>
            <a:ext cx="672336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SDAST meeting #36, Copenhagen 2006-10-26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page </a:t>
            </a:r>
            <a:fld id="{A483B054-AB71-4D4B-AEE4-B79A51CC5522}" type="slidenum"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5760" y="3216240"/>
            <a:ext cx="72900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JEM-X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IMAGING</a:t>
            </a:r>
            <a:br>
              <a:rPr sz="4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fluxes and source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23920" y="5921280"/>
            <a:ext cx="70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da-DK" sz="2000" spc="-1" strike="noStrike">
                <a:solidFill>
                  <a:srgbClr val="356292"/>
                </a:solidFill>
                <a:latin typeface="Berlin Sans FB"/>
              </a:rPr>
              <a:t>Jérôme Chenev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79760" y="1758960"/>
            <a:ext cx="4631040" cy="4595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7520" y="5773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5400000">
            <a:off x="47160" y="193680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00400" y="11095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 transient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5400000">
            <a:off x="1926720" y="1261800"/>
            <a:ext cx="5166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 rot="5400000">
            <a:off x="2404080" y="560880"/>
            <a:ext cx="4487760" cy="6610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76400" y="1009800"/>
            <a:ext cx="688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ed Power law fit: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  <a:ea typeface="Arial"/>
              </a:rPr>
              <a:t>=3.5 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r>
              <a:rPr b="0" lang="da-DK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a-DK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38 / 130 d.o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8440" y="60404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MM proposal: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dentification of a JEM-X trans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3200" y="1335240"/>
            <a:ext cx="31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Flux</a:t>
            </a:r>
            <a:r>
              <a:rPr b="0" lang="en-GB" sz="2000" spc="-1" strike="noStrike" baseline="-2000">
                <a:solidFill>
                  <a:srgbClr val="000000"/>
                </a:solidFill>
                <a:latin typeface="Berlin Sans FB"/>
              </a:rPr>
              <a:t> [3-10 keV]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000" spc="-1" strike="noStrike">
                <a:solidFill>
                  <a:srgbClr val="000000"/>
                </a:solidFill>
                <a:latin typeface="Berlin Sans FB"/>
              </a:rPr>
              <a:t> 50 mCr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520" y="1773360"/>
            <a:ext cx="87631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5x5 pixels integration in the new “RECONSTRUCTED” input and mosaic im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“FLUX” in JMXi_SRCL_RES produced b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_ima_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source light cur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source spectr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omparison to Crab flux in same conditions =&gt; source fluxes in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A-5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A-6   imag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JMXi_SRCL_RES   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3  –  10 keV]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2.8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0.26    cnt/c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6 cnts/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1 cnt/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s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13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10 – 25 keV]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1.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0.09    cnt/c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cnts/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1 cnt/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s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41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2.8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light curves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0 cnts/s 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1 cnt/s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9  mCr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[3  –  10 ke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0  cnts/s 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1 cnt/s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25 mCr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[10 – 25 ke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92120" y="1012680"/>
          <a:ext cx="4340160" cy="56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012680"/>
                    <a:ext cx="434016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49760" y="1019160"/>
          <a:ext cx="4332240" cy="560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1019160"/>
                    <a:ext cx="43322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22600" y="10177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ource detection limit fig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5720" y="4678200"/>
            <a:ext cx="21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62240" y="1687680"/>
            <a:ext cx="6624360" cy="487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33480" y="1039680"/>
            <a:ext cx="79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rab calibration from rev. 422 pointings at 0.5˚, 1 ˚ and 2 ˚ off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5400000">
            <a:off x="2349000" y="-892080"/>
            <a:ext cx="441972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3600" y="1203480"/>
            <a:ext cx="6711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23920" y="1052640"/>
            <a:ext cx="524844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3960" y="10368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9520" y="1773360"/>
            <a:ext cx="87631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5x5 pixels integration in the new “RECONSTRUCTED” input and mosaic im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“FLUX” in JMXi_SRCL_RES produced b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_ima_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source light cur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source spectr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Comparison to Crab flux in same conditions =&gt; source fluxes in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a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A-5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A-6   imag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JMXi_SRCL_RES   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3  –  10 keV]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2.8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0.26    cnt/c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6 cnts/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 cnt/dm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s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13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[10 – 25 keV]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.0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0.09    cnt/c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cnts/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s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 cnt/dm</a:t>
            </a:r>
            <a:r>
              <a:rPr b="1" lang="en-GB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/s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41 mCr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light curves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0 cnts/s 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 cnt/s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9  mCr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[3  –  10 ke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0  cnts/s  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 cnt/s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25 mCra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[10 – 25 ke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3960" y="1036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new JEM-X source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GR J17454-27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0120" y="1609560"/>
            <a:ext cx="8178840" cy="4934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2600" y="1617840"/>
            <a:ext cx="63180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5:03:06Z</dcterms:created>
  <dc:creator>Mette Marianne Hvid</dc:creator>
  <dc:description/>
  <dc:language>en-US</dc:language>
  <cp:lastModifiedBy>Jerome Chenevez</cp:lastModifiedBy>
  <dcterms:modified xsi:type="dcterms:W3CDTF">2006-10-27T08:37:57Z</dcterms:modified>
  <cp:revision>73</cp:revision>
  <dc:subject/>
  <dc:title>Slide 1</dc:title>
</cp:coreProperties>
</file>