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14240" y="6619680"/>
            <a:ext cx="6723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SDAST meeting #36, Copenhagen 2006-10-26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page </a:t>
            </a:r>
            <a:fld id="{C87C1BC8-C591-475B-A543-EAFB2AF0E959}" type="slidenum"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290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JEM-X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SOURCE SPECTRUM</a:t>
            </a:r>
            <a:br>
              <a:rPr sz="4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of strong source cont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23920" y="5921280"/>
            <a:ext cx="70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da-DK" sz="2000" spc="-1" strike="noStrike">
                <a:solidFill>
                  <a:srgbClr val="356292"/>
                </a:solidFill>
                <a:latin typeface="Berlin Sans FB"/>
              </a:rPr>
              <a:t>Jérôme Chenev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_ima_mosaic deliveries for OS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_ima_mosaic-6.0.0 (April 2006 – last SDAST meeting #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 4377 (Energy selection), WCS coordinate transformation, etc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W 1852 reject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_ima_mosaic-6.0.1 (August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W ####: new input IMATYPE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_ima_mosaic-6.0.2 (September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W #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_ima_mosaic-6.0.3 (28 September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W 1929: 1 single outpu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62240" y="1687680"/>
            <a:ext cx="6624360" cy="487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9240" y="1039680"/>
            <a:ext cx="86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72 pointings at 0.5˚, 1 ˚ and 2 ˚ off-axis from Crab calibration in rev. 4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573280"/>
            <a:ext cx="893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d source spectra ex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3 fak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ectively at 1</a:t>
            </a:r>
            <a:r>
              <a:rPr b="0" lang="en-GB" sz="2400" spc="-1" strike="noStrike">
                <a:solidFill>
                  <a:srgbClr val="000000"/>
                </a:solidFill>
                <a:latin typeface="Berlin Sans FB"/>
              </a:rPr>
              <a:t>˚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GB" sz="2400" spc="-1" strike="noStrike">
                <a:solidFill>
                  <a:srgbClr val="000000"/>
                </a:solidFill>
                <a:latin typeface="Berlin Sans FB"/>
              </a:rPr>
              <a:t>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and 3</a:t>
            </a:r>
            <a:r>
              <a:rPr b="0" lang="en-GB" sz="2400" spc="-1" strike="noStrike">
                <a:solidFill>
                  <a:srgbClr val="000000"/>
                </a:solidFill>
                <a:latin typeface="Berlin Sans FB"/>
              </a:rPr>
              <a:t>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way from Cr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each sum spectrum from the 72 individual spec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Crab equivalent model (phabs*P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85920" y="1028880"/>
            <a:ext cx="52675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5400000">
            <a:off x="2142360" y="329040"/>
            <a:ext cx="5602320" cy="6981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080" y="1055520"/>
            <a:ext cx="18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~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25 mCr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76560" y="1085760"/>
            <a:ext cx="52671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5400000">
            <a:off x="2053440" y="356040"/>
            <a:ext cx="5572080" cy="6935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97600" y="10494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~3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0 mCr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8680" y="1057320"/>
            <a:ext cx="52675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5400000">
            <a:off x="2302560" y="321120"/>
            <a:ext cx="558612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5:03:06Z</dcterms:created>
  <dc:creator>Mette Marianne Hvid</dc:creator>
  <dc:description/>
  <dc:language>en-US</dc:language>
  <cp:lastModifiedBy>Jerome Chenevez</cp:lastModifiedBy>
  <dcterms:modified xsi:type="dcterms:W3CDTF">2006-10-26T13:12:08Z</dcterms:modified>
  <cp:revision>74</cp:revision>
  <dc:subject/>
  <dc:title>Slide 1</dc:title>
</cp:coreProperties>
</file>